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6610-812B-4B18-8A1D-44F848C4CB6C}" type="datetime">
              <a:rPr b="0" lang="zh-CN" sz="1200" spc="-1" strike="noStrike">
                <a:solidFill>
                  <a:srgbClr val="000000"/>
                </a:solidFill>
                <a:latin typeface="Times New Roman"/>
                <a:ea typeface="Arial"/>
              </a:rPr>
              <a:t>26/7/31</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8F47-A4CD-4F2D-9B4B-C2D1505C4746}"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57DC-7CEE-43F3-B74F-FDE4426E98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42B8F-8402-4814-A2C1-A4C799FEE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825E8D-128E-46D6-A4C1-7814AD8C3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545A03-B8DB-4DE7-A5E2-686DFDFE4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8DCF23-D610-48CC-844B-AB50DA36E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0FC82F-78D1-4F94-9FA1-A154A9BF8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1974B-890E-4C1E-A1E3-4C1D53580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2EBE98-3836-4923-A27C-35F5BCF3E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A4E90-86E7-4BE6-BB2D-E5FB3B289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CC91F-32B0-42DB-8511-DD49183E8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3ABC6-CF87-40DB-BD4E-31D56EE2A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99921C-9212-4EDD-A885-52E468FA1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CE8AA-38C7-4329-9A81-F277B891C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17CFC-B81A-49A9-867A-87A7086D1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397B4-6102-4977-B1D6-BCD4A4AD9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3A7CB-E32C-4C8D-A289-FD1D0826C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02246E-B526-4586-980C-0D3ED6E1B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6AD602-D110-4482-B591-5A5D82ED71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055FDF-3FE1-4D2D-B163-67F8C07C23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FA22F7-650E-44C6-892B-1F8F659B4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2C0D6E-5A7C-4126-9BAC-1A75048F0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2292AB-7C60-423E-AAEB-B587AB740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80C078-26E2-4838-8AAE-70DCB9E0F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CC6DB4-5753-4552-9004-5229CC85D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37886F-B0D2-40A7-BB5A-785408E5B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F3F5-865D-4336-8902-CAACB9A5EE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0FE6-C07B-43EA-8F1D-B90BC8237D69}"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